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4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809B-D051-4EAF-B6F0-D02E05C210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- Candle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32C-15DE-48A8-8B0B-25ABD978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9A4-E447-49F5-9915-4111EEA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904-D200-4C96-BE53-B26AE1D2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9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24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9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24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899-4EF7-4973-9EF1-D835AE5A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173C-C9AD-4DA0-AD99-8F2E4254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5318-8B80-4C27-84F3-E089D9A9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CA5A-C48C-4D20-BB11-0AB29902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9AB-620D-4B35-B231-BCF14753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92B0-7647-41C8-9768-07BA4C1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688-4390-4E05-AB08-CC70DFC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848-79E1-4BAD-B053-98954F23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1E4-18AF-4588-84C0-492AB659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349E-50E8-47D2-A8C6-3BEBCE2C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B5A0-0598-4864-B5D8-A3ED6C5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012-507C-479A-B6C0-76EC30D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AF38-6364-4F49-B7D5-114B81CD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9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24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9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24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3F8-D423-4EA6-8BF7-0EC0A3E7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B16-7419-4437-A5C9-01B625A2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8AF-E2F7-4858-B75F-9F1FB3E0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98C-808F-4052-924B-8C127B72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C01-01E2-4AB3-A1E9-939B9245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389-B4A1-49E7-A19F-9635B83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FA0-49C0-4711-A451-D0E6202D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441-FA00-489E-A0AC-8E5657E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-304920"/>
            <a:ext cx="1143000" cy="6856560"/>
            <a:chOff x="-228600" y="-30492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-228600" y="-30492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28600" y="289548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228600" y="19044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cript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F52-DF04-47F7-A64C-448A6F1E054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E95-29C7-442E-AF3E-390F8323154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Script MT Bold"/>
              </a:rPr>
              <a:t>Benjamin Franklin</a:t>
            </a:r>
            <a:endParaRPr b="0" lang="en-US" sz="66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584360"/>
            <a:ext cx="6705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Famous States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Invento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Writ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Print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Creative Geniu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Known for wit and common sense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Script MT Bold"/>
              </a:rPr>
              <a:t>Biography</a:t>
            </a:r>
            <a:endParaRPr b="0" lang="en-US" sz="60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Born in Boston, 1706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One of 17 children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ather – Candle maker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Married Deborah Read and had 3 children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ounded First Free Lending Library in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America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Started Police Force, Fire Department, a Hospital and an Academy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irst Governor Of Pennsylvania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write the Constitution of the United States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22096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Poor Richard’s Almanac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Yearly Calendar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Booklet of advice, news and information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Contained wise witty sayings of Poor Richard Saunders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Made  Ben very famous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Scientific Experiment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and Inventions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Invented the Franklin Stove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Invented the Lightning Rod 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ound safer ways for ships to tra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ound safer ways to send mai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Made a musical instrument called 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an Armonica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irst to prove that Lightning was 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electricity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80880"/>
            <a:ext cx="1218960" cy="1524240"/>
          </a:xfrm>
          <a:prstGeom prst="lightningBol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Statesman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Loved  Philadelphia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enact  laws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13 American colonies break away from England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Thomas Jefferson write The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Declaration of Independence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irst Governor of Pennsylvania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write The Constitution of United States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934320" cy="114300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000099"/>
              </a:gs>
            </a:gsLst>
            <a:lin ang="5400000"/>
          </a:gradFill>
          <a:ln cap="sq" w="1260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Script MT Bol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Script MT Bold"/>
              </a:rPr>
              <a:t>FAMOUS SAYINGS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1600200"/>
          <a:ext cx="7772400" cy="4648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Early to bed – Early to ris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Makes a man healthy, wealthy and wis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A word to the wise is enough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One today is worth tw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omorrows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Up, sluggard, and wast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Not lif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A penny saved is a penn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Earned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A small leak will sink a great ship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is hard for an empty bag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o stand uprigh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Well done is better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han well said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48:13Z</dcterms:created>
  <dc:creator>Our Lady of Good Counsel</dc:creator>
  <dc:description/>
  <dc:language>en-US</dc:language>
  <cp:lastModifiedBy>lyerkes</cp:lastModifiedBy>
  <dcterms:modified xsi:type="dcterms:W3CDTF">2011-01-11T18:55:50Z</dcterms:modified>
  <cp:revision>9</cp:revision>
  <dc:subject/>
  <dc:title> Benjamin Franklin</dc:title>
</cp:coreProperties>
</file>